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D142-4E1C-49AE-96F4-41F8E6DB8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CC86-2700-43A5-AAA0-876610932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4199-F336-4EA1-9327-26AC8AD20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AFE0-12AE-4869-917C-484DC9ECF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F33A-F8B6-4426-B48F-9F98BC47E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CF2C-36D3-42A7-B373-BDA25F87C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98C9-6B66-44E9-B4DD-B64426A9A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10D1-CF59-44EA-AB42-5FF8C5D9C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7F37-9B62-4C66-8C38-215CEF2F0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F614-70F2-4C03-9E76-AB09ED63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0C7F-E585-4A6E-A21E-C9A0C6B3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1024-DCC6-4373-ADA7-536D29C8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EE4C8-7879-49BD-8615-FBC8F8109E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1752480"/>
            <a:ext cx="792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华文楷体"/>
              </a:rPr>
              <a:t>加强学风建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066680" y="838080"/>
            <a:ext cx="5410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2286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</a:rPr>
              <a:t>提升感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1371600"/>
            <a:ext cx="85345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才出于勤奋——高尔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生在勤，不索何获－－张衡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业精于勤而荒于嬉，行成于思而毁于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－韩愈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才就是无止境刻苦勤奋的能力 －－卡莱尔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聪明出于勤奋，天才在于积累 －－华罗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8600" y="685800"/>
            <a:ext cx="7772400" cy="49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好学而不勤问非真好学者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书山有路勤为径，学海无涯苦作舟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勤劳一日，可得一夜安眠；勤劳一生，可得幸福长 眠 －－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芬奇（意大利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形成天才的决定因素应该是勤奋 －郭沫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819520" y="3657600"/>
            <a:ext cx="6095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66"/>
                </a:solidFill>
                <a:latin typeface="黑体"/>
                <a:ea typeface="黑体"/>
              </a:rPr>
              <a:t>天  道  酬  勤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267080" y="1752480"/>
            <a:ext cx="30481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总结</a:t>
            </a:r>
            <a:endParaRPr b="0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209320" y="3048120"/>
            <a:ext cx="8915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楷体"/>
              </a:rPr>
              <a:t>形成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华文楷体"/>
              </a:rPr>
              <a:t>“勤学、善学、乐学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楷体"/>
              </a:rPr>
              <a:t>的良好学风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371600" y="1295280"/>
            <a:ext cx="32004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目标：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19320" y="1219320"/>
            <a:ext cx="5943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1143000"/>
            <a:ext cx="41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228600"/>
            <a:ext cx="32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黑体"/>
              </a:rPr>
              <a:t>回顾过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685800" y="1219320"/>
          <a:ext cx="7391160" cy="5209920"/>
        </p:xfrm>
        <a:graphic>
          <a:graphicData uri="http://schemas.openxmlformats.org/drawingml/2006/table">
            <a:tbl>
              <a:tblPr/>
              <a:tblGrid>
                <a:gridCol w="2011320"/>
                <a:gridCol w="2012760"/>
                <a:gridCol w="1662120"/>
                <a:gridCol w="1704960"/>
              </a:tblGrid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9900cc"/>
                          </a:solidFill>
                          <a:latin typeface="Arial"/>
                          <a:ea typeface="黑体"/>
                        </a:rPr>
                        <a:t>科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班平均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级名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区平均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9900cc"/>
                          </a:solidFill>
                          <a:latin typeface="Arial"/>
                          <a:ea typeface="黑体"/>
                        </a:rPr>
                        <a:t>语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86.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91.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9900cc"/>
                          </a:solidFill>
                          <a:latin typeface="Arial"/>
                          <a:ea typeface="黑体"/>
                        </a:rPr>
                        <a:t>数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60.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84.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9900cc"/>
                          </a:solidFill>
                          <a:latin typeface="Arial"/>
                          <a:ea typeface="黑体"/>
                        </a:rPr>
                        <a:t>英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69.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77.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9900cc"/>
                          </a:solidFill>
                          <a:latin typeface="Arial"/>
                          <a:ea typeface="黑体"/>
                        </a:rPr>
                        <a:t>政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60.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54.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9900cc"/>
                          </a:solidFill>
                          <a:latin typeface="Arial"/>
                          <a:ea typeface="黑体"/>
                        </a:rPr>
                        <a:t>历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56.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60.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9900cc"/>
                          </a:solidFill>
                          <a:latin typeface="Arial"/>
                          <a:ea typeface="黑体"/>
                        </a:rPr>
                        <a:t>地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51.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55.9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9900cc"/>
                          </a:solidFill>
                          <a:latin typeface="Arial"/>
                          <a:ea typeface="黑体"/>
                        </a:rPr>
                        <a:t>物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30.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43.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9900cc"/>
                          </a:solidFill>
                          <a:latin typeface="Arial"/>
                          <a:ea typeface="黑体"/>
                        </a:rPr>
                        <a:t>化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47.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52.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9900cc"/>
                          </a:solidFill>
                          <a:latin typeface="Arial"/>
                          <a:ea typeface="黑体"/>
                        </a:rPr>
                        <a:t>生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35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41.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505320" y="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班前十名同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371600" y="914400"/>
          <a:ext cx="7543800" cy="5692680"/>
        </p:xfrm>
        <a:graphic>
          <a:graphicData uri="http://schemas.openxmlformats.org/drawingml/2006/table">
            <a:tbl>
              <a:tblPr/>
              <a:tblGrid>
                <a:gridCol w="3814560"/>
                <a:gridCol w="1514520"/>
                <a:gridCol w="221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姓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班名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区名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Arial"/>
                          <a:ea typeface="黑体"/>
                        </a:rPr>
                        <a:t>朱晓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39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Arial"/>
                          <a:ea typeface="黑体"/>
                        </a:rPr>
                        <a:t>谭家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78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Arial"/>
                          <a:ea typeface="黑体"/>
                        </a:rPr>
                        <a:t>李锦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8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Arial"/>
                          <a:ea typeface="黑体"/>
                        </a:rPr>
                        <a:t>何淑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1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Arial"/>
                          <a:ea typeface="黑体"/>
                        </a:rPr>
                        <a:t>侯晓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58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Arial"/>
                          <a:ea typeface="黑体"/>
                        </a:rPr>
                        <a:t>粱俭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6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Arial"/>
                          <a:ea typeface="黑体"/>
                        </a:rPr>
                        <a:t>张琼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69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Arial"/>
                          <a:ea typeface="黑体"/>
                        </a:rPr>
                        <a:t>陈玉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7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Arial"/>
                          <a:ea typeface="黑体"/>
                        </a:rPr>
                        <a:t>黄燕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8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Arial"/>
                          <a:ea typeface="黑体"/>
                        </a:rPr>
                        <a:t>梁佩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89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9140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班级“学风”方面存在的主要问题　　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228600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１、班级学习环境差。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教室中午、课间和其他休息时间，学生喜欢吵闹，声音嘈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380988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２、学习习惯差。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早读无精神；晚修时间及清课，不能自主安排学习任务；课堂不发言，讲小话；学习有疑问，不是积极请教老师、同学，而是随便放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</a:rPr>
              <a:t>分析现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14400" y="1295280"/>
            <a:ext cx="5181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143000"/>
            <a:ext cx="4496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9907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３、学习态度差。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上课不认真听讲，不做笔记；作业不按时完成，不独立完成；学习全凭兴趣，三天打鱼两天晒网，成绩波动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40384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４、主动学习能力差。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自习时间无老师在与有老师在两个样；双休作业质量低；课余不能充分利用时间，一有空闲就谈天说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762120"/>
            <a:ext cx="8534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５、学习心理素质差。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学习稍遇挫折就放弃，整天抱怨，怨天尤人；成绩下滑却不能及时调整情绪，或妒嫉他人，或烦躁不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342900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６、进取意识差。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不服从班级管理，不接受老师教育；学习无目标，整天无所事事；无文明习惯，经常到处游逛，违纪次数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1599840"/>
            <a:ext cx="84582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谈谈自己的学习目的。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）为父母而学；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）为分数学；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）混日子；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）为自己的理想和前途而学；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380880"/>
            <a:ext cx="34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</a:rPr>
              <a:t>明确目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219320" y="304920"/>
            <a:ext cx="29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00"/>
                </a:solidFill>
                <a:latin typeface="Arial"/>
              </a:rPr>
              <a:t>展望未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32240" y="1143000"/>
            <a:ext cx="460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黑体"/>
              </a:rPr>
              <a:t>班级“学风”建设的建议和设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2133720"/>
            <a:ext cx="4876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220968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、营造班级氛围</a:t>
            </a:r>
            <a:r>
              <a:rPr b="0" lang="zh-CN" sz="32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、强化纪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396252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、加强方法指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05320" y="48769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、发挥骨干作用</a:t>
            </a:r>
            <a:r>
              <a:rPr b="0" lang="zh-CN" sz="18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资料由书利华教育网【www.ShuLiHua.net】为您整理提供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9:26:33Z</dcterms:modified>
  <cp:revision>42</cp:revision>
  <dc:subject>主题班会课件(分28大类): http://shop62905894.taobao.com</dc:subject>
  <dc:title>主题班会课件(分28大类): http://shop62905894.taobao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